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82A-DA55-49FE-B229-F369A6AF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9D2-C08E-4601-8C40-FDFDE9DA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7B5-1615-403F-A74C-B6746387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8C0-8940-4D61-8F9F-37A40F76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FA1-DDF4-4413-ACB1-EB4A93F9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6A6-1A5A-4D9B-A8C7-0937E2D2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9A4-CA0D-4802-A4E9-8AED4C97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D17-611E-4DDE-AFAB-11EDC0EA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640-6B35-445E-982C-332E447C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00E-EC76-47B9-9A74-D665028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6AC-B088-4038-A2B5-7B975917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3B3-4D17-4811-BF8A-AC00E88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B193-041F-433F-B26F-5BF4A9A5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ian Genetics Pa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14-06-Testcross-L.gif"/>
          <p:cNvPicPr/>
          <p:nvPr/>
        </p:nvPicPr>
        <p:blipFill>
          <a:blip r:embed="rId1"/>
          <a:stretch/>
        </p:blipFill>
        <p:spPr>
          <a:xfrm>
            <a:off x="4202280" y="1219320"/>
            <a:ext cx="4551120" cy="5029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666880" y="380880"/>
            <a:ext cx="323856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ST CRO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39800"/>
            <a:ext cx="444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determine gen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do a test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lways cross an unkn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 with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zygous rece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vs. Nu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are determined by genes and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es provide the plan for development, how it unfolds depends on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Cro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oss involving 2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Independent Assortment: Genes for different traits can segregate independently during the formation of game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Assortment accounts for the many variations in org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14-07-DihybridCross-L.gif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71800" y="152280"/>
            <a:ext cx="321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ihybrid Cros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Mendel’s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passed from parent to off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orms of alleles are dominant and some are reces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receives 2 copies of each gene, these genes separate when gametes are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 for different traits segregate independ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impl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Dominance: the heterozygous is an intermediate between the two homozygous. Ex. Red and white makes p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14-09-IncompletDominance-L.gif"/>
          <p:cNvPicPr/>
          <p:nvPr/>
        </p:nvPicPr>
        <p:blipFill>
          <a:blip r:embed="rId2"/>
          <a:stretch/>
        </p:blipFill>
        <p:spPr>
          <a:xfrm>
            <a:off x="4648320" y="160020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impl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ominance: The two homozygous traits are expressed equally in the heterozgyous. Ex. Black and white chickens the heterozygous have both black and white fea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impl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Alleles: genes with more than 2 alleles. Ex. Bloo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14-10-ABOAlleles-L.gif"/>
          <p:cNvPicPr/>
          <p:nvPr/>
        </p:nvPicPr>
        <p:blipFill>
          <a:blip r:embed="rId2"/>
          <a:stretch/>
        </p:blipFill>
        <p:spPr>
          <a:xfrm>
            <a:off x="4343400" y="1600200"/>
            <a:ext cx="4648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impl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genic Traits: Traits are controlled by two or more genes. Ex. Ski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14-12-PolygenicInherit-L.gif"/>
          <p:cNvPicPr/>
          <p:nvPr/>
        </p:nvPicPr>
        <p:blipFill>
          <a:blip r:embed="rId2"/>
          <a:stretch/>
        </p:blipFill>
        <p:spPr>
          <a:xfrm>
            <a:off x="4648320" y="1600200"/>
            <a:ext cx="3905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imple Domin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-Linked Inheritance: genes that are normally found on the X-chromos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y are more common in 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Colorblindness, hemophilia, duchenne Muscular Dystr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15-03-SexLinkedInherit-L.gif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7:01:54Z</dcterms:created>
  <dc:creator>Perquimans County Schools</dc:creator>
  <dc:description/>
  <dc:language>en-US</dc:language>
  <cp:lastModifiedBy>Perquimans High School</cp:lastModifiedBy>
  <dcterms:modified xsi:type="dcterms:W3CDTF">2008-11-04T14:31:53Z</dcterms:modified>
  <cp:revision>3</cp:revision>
  <dc:subject/>
  <dc:title>Mendelian Genetics Part II</dc:title>
</cp:coreProperties>
</file>